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54B-87B5-4F92-8691-CE847B9D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0F0-CBA2-4204-AC91-3C6F1EA4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955-BBC8-4E7F-98C0-413CF360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4E0-0FE3-4A6C-8196-0EBBC0F7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4BA4-29DF-4716-9D7C-22959252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100D-762A-4724-A4C4-ECF3EF44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81AF-E4A9-4D49-89C6-06E0693D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DBD3-2BD3-46B2-8C9A-276AD0BD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1848-47C6-45E7-BB7E-84B0FD89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9343-7081-4080-8A5F-18970D4C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C562-B396-4285-BD65-A7A72433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40C-A083-4941-850A-2EBBCD6E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0C7A-2B6D-41CD-A2EA-5BFCDB56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351F-8D88-446F-B1CD-A316E67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12A0-F560-4F0B-AD8B-D8073225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B6A0-E3F8-4145-867D-52CFB506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8E85-84C6-45F9-B78E-4D05D524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BAD-FBC5-4DFE-8BB2-C13CEED3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07C-2122-4C06-ADBA-44CC4C0E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0B0-0C2A-47DC-9773-55D789E1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539-12FB-4308-9DF4-D190B801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DDA-ED25-48ED-8757-7C45DC8C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30D-C226-4345-B3CC-E4A7B4DF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327-CE1F-4008-8FB2-DE540268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e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FBB5-B0B6-47D5-82D2-00F50286E72C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e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B1C7-EE27-42F0-BD83-2F1FB5B63F9D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5b5249"/>
                </a:solidFill>
                <a:latin typeface="Times New Roman"/>
              </a:rPr>
              <a:t>EL PROCESO DE FOTOSÍNT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CLOROPLASTO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4" name="Picture 4" descr="\\Apolo\Home\dpacheco\BASE DE DATOS\FISIOLOGIA VEGETAL\LIBRO-FOTOSÍNTESIS\FOTOSINTESIS - LibroBOTANICAOnLine - FOTOSINTESIS_archivos\Image13.gif"/>
          <p:cNvPicPr/>
          <p:nvPr/>
        </p:nvPicPr>
        <p:blipFill>
          <a:blip r:embed="rId1"/>
          <a:stretch/>
        </p:blipFill>
        <p:spPr>
          <a:xfrm>
            <a:off x="1981080" y="1870200"/>
            <a:ext cx="60962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11280" y="28908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2a3d7a"/>
                </a:solidFill>
                <a:latin typeface="Times New Roman"/>
              </a:rPr>
              <a:t>1. Reacciones dependientes de luz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Ocurren en las granas de los cloroplast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La clorofila y otras moléculas de pigmento presentes en las granas del cloroplasto absorben la energía de luz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Esto aumenta la energía de ciertos electrones en las moléculas de los pigmentos activándolos. Esto los lleva a un nivel de energía más alto. A medida que los electrones de los p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gmentos llegan a un nivel de energía más bajo, liberan energí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095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\\Apolo\Home\dpacheco\BASE DE DATOS\FISIOLOGIA VEGETAL\LIBRO-FISIOLOGÍA VEGETAL\Fotosíntesis_archivos\lightrxn.gif"/>
          <p:cNvPicPr/>
          <p:nvPr/>
        </p:nvPicPr>
        <p:blipFill>
          <a:blip r:embed="rId1"/>
          <a:stretch/>
        </p:blipFill>
        <p:spPr>
          <a:xfrm>
            <a:off x="533520" y="2133720"/>
            <a:ext cx="84582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3. Los electrones regresan a un nivel de en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rgía más bajo al pasar por una cadena de transporte de electrones, en forma muy parecida a lo que ocurre en la respiración celular. En el proceso de liberación de energía de los electrones, se produce ATP. En otras palabras, la energía de los e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ctrones se convierte en energía utilizable en los cloroplastos. El ATP que se produce en las reacciones dependientes de luz se utiliza en las reacciones de oscuridad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430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7" descr="\\Apolo\Home\dpacheco\BASE DE DATOS\FISIOLOGIA VEGETAL\LIBRO-FISIOLOGÍA VEGETAL\Fotosíntesis_archivos\cyclicph.gif"/>
          <p:cNvPicPr/>
          <p:nvPr/>
        </p:nvPicPr>
        <p:blipFill>
          <a:blip r:embed="rId1"/>
          <a:stretch/>
        </p:blipFill>
        <p:spPr>
          <a:xfrm>
            <a:off x="2057400" y="3552840"/>
            <a:ext cx="4876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39640" y="2350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Formación de AT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7928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5" descr="\\Apolo\Home\dpacheco\BASE DE DATOS\FISIOLOGIA VEGETAL\LIBRO-FISIOLOGÍA VEGETAL\Fotosíntesis_archivos\fotosint.jpg"/>
          <p:cNvPicPr/>
          <p:nvPr/>
        </p:nvPicPr>
        <p:blipFill>
          <a:blip r:embed="rId1"/>
          <a:stretch/>
        </p:blipFill>
        <p:spPr>
          <a:xfrm>
            <a:off x="762120" y="2319480"/>
            <a:ext cx="8111880" cy="3852720"/>
          </a:xfrm>
          <a:prstGeom prst="rect">
            <a:avLst/>
          </a:prstGeom>
          <a:ln w="0">
            <a:noFill/>
          </a:ln>
        </p:spPr>
      </p:pic>
      <p:sp>
        <p:nvSpPr>
          <p:cNvPr id="128" name="1 CuadroTexto"/>
          <p:cNvSpPr/>
          <p:nvPr/>
        </p:nvSpPr>
        <p:spPr>
          <a:xfrm>
            <a:off x="1053000" y="5516640"/>
            <a:ext cx="168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PQ: plastoquinon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PC: plastocianin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Fd: ferredoxin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4572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a mayoría de los autótrofos fabrican su propio alimento utilizando la energía luminos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a energía de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a </a:t>
            </a: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uz se convierte en la energía química que se almacena en la glucos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El proceso mediante el cual los autótrofos fabrican su propio alimento se llama fotosíntesi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a mayoría de los seres vivos dependen directa o indirectamente de la luz para conseguir su aliment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5029200" y="2732040"/>
            <a:ext cx="3886200" cy="3083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Las condiciones necesarias para la fotosínt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2a3d7a"/>
                </a:solidFill>
                <a:latin typeface="Times New Roman"/>
              </a:rPr>
              <a:t>La fotosíntesis es un proceso complejo. Sin embargo, la reacción general se puede resumir de esta manera: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6 CO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 + 6 H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O + energía de luz           C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12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 + 6 O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562720" y="3429000"/>
            <a:ext cx="76176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34920" y="2909880"/>
            <a:ext cx="10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a8b1c"/>
                </a:solidFill>
                <a:latin typeface="Times New Roman"/>
              </a:rPr>
              <a:t>enzim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cc010"/>
                </a:solidFill>
                <a:latin typeface="Times New Roman"/>
              </a:rPr>
              <a:t>clorofil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EN LA FOTOSÍNTESIS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b5249"/>
                </a:solidFill>
                <a:latin typeface="Times New Roman"/>
              </a:rPr>
              <a:t>La luz solar es la fuente de energía que atrapa la clorofila, un pigmento verde en las células que los autótrofos utilizan para la fotosíntes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b5249"/>
                </a:solidFill>
                <a:latin typeface="Times New Roman"/>
              </a:rPr>
              <a:t>El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r>
              <a:rPr b="0" lang="es-EC" sz="3200" spc="-1" strike="noStrike">
                <a:solidFill>
                  <a:srgbClr val="5b5249"/>
                </a:solidFill>
                <a:latin typeface="Times New Roman"/>
              </a:rPr>
              <a:t>ióxido de carbono y el agua son las materias prim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b5249"/>
                </a:solidFill>
                <a:latin typeface="Times New Roman"/>
              </a:rPr>
              <a:t>Las enzimas y las coenzimas controlan la síntesis de glucosa, a partir de las materias prim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LA LUZ Y LOS PIGMENTO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a luz es una forma de energía radian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a energía radiante es energía que se propaga en onda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Hay varias formas de energía radiante (</a:t>
            </a:r>
            <a:r>
              <a:rPr b="0" lang="es-EC" sz="2000" spc="-1" strike="noStrike">
                <a:solidFill>
                  <a:srgbClr val="5b5249"/>
                </a:solidFill>
                <a:latin typeface="Times New Roman"/>
              </a:rPr>
              <a:t>ondas de radio, infrarrojas, ultravioletas, rayos X, etc</a:t>
            </a: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.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Para sintetizar alimento, se usan únicamente las ondas de luz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Picture 7" descr="imagen01.GIF (4554 bytes)"/>
          <p:cNvPicPr/>
          <p:nvPr/>
        </p:nvPicPr>
        <p:blipFill>
          <a:blip r:embed="rId1"/>
          <a:stretch/>
        </p:blipFill>
        <p:spPr>
          <a:xfrm>
            <a:off x="4800600" y="3141720"/>
            <a:ext cx="41911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Cuando la luz choca con la materia, parte de la energía de la luz se absorbe y se convierte en otras formas de energí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Cuando en una célula la luz del sol choca con las moléculas de clorofila, la clorofila absorbe energía de luz que, eventualmente, se convierte en energía química y se almacena en las moléculas de glucosa que se produce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74680" y="19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CLASES DE CLOROFIL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329920"/>
            <a:ext cx="4343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Hay varias clases de clorofila, las cuales, generalmente se designan como a, b, c y 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Algunas bacterias poseen una clase de clorofila que no está en las plantas ni en las alga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Sin embargo, todas las moléculas de clorofila contienen el elemento magnesio (Mg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Picture 7" descr="clorofila.jpg (17746 bytes)"/>
          <p:cNvPicPr/>
          <p:nvPr/>
        </p:nvPicPr>
        <p:blipFill>
          <a:blip r:embed="rId1"/>
          <a:stretch/>
        </p:blipFill>
        <p:spPr>
          <a:xfrm>
            <a:off x="4952880" y="2577960"/>
            <a:ext cx="41148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07880" y="149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4" descr="\\Apolo\Home\dpacheco\BASE DE DATOS\FISIOLOGIA VEGETAL\LIBRO-FISIOLOGÍA VEGETAL\Fotosíntesis_archivos\clorof.gif"/>
          <p:cNvPicPr/>
          <p:nvPr/>
        </p:nvPicPr>
        <p:blipFill>
          <a:blip r:embed="rId1"/>
          <a:stretch/>
        </p:blipFill>
        <p:spPr>
          <a:xfrm>
            <a:off x="2039760" y="1542960"/>
            <a:ext cx="672336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Los autótrofos también poseen unos pigmentos llamados carotenoides que pueden ser de color anaranjado, amarillo o roj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El color verde de la clorofila generalmente enmascara estos pigmentos. Los cuales, sin embargo, se pueden ver en las hojas durante el otoño, cuando disminuye la cantidad de clorofil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Los carotenoides también absorben luz pero son menos importantes que la clorofila en este proces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nny Zirulnik</dc:creator>
  <dc:description/>
  <dc:language>en-US</dc:language>
  <cp:lastModifiedBy>Fanny Zirulnik</cp:lastModifiedBy>
  <dcterms:modified xsi:type="dcterms:W3CDTF">2015-04-06T22:49:23Z</dcterms:modified>
  <cp:revision>12</cp:revision>
  <dc:subject/>
  <dc:title>PowerPoint Presentation</dc:title>
</cp:coreProperties>
</file>